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44C-43F6-48A3-877D-5C10572F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AC82-0805-49E8-A8BD-FD5BB42C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997-9382-49B8-A019-BA01E3FD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DA6-C5C7-4FFB-9466-8FE099E7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8A635-9D01-41DB-933C-8B29D598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85A8C-3973-4CA9-92F7-6AF5A425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39447-8B22-4A0F-AC97-CEFCED17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C419E-4F6E-470B-BF01-2A2ABAD8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96537-72FF-477E-9204-88FA5E24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0A279-9D2D-4686-9DF4-D33ED1A7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64415-B9E4-40C0-B0B5-FBB5BF6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036-D13C-4188-B18E-121B678A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0A49C1-C550-4B35-A7E9-F507C678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2A1AE-3ABD-479C-BAF5-652E4A5F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E6897-E176-42E2-9272-B8551C2B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C8E96-5094-45FE-8B19-91A6884E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BD15F-317B-4171-9E23-85578B35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DF3-2761-4ACF-B3CB-9CC44F5A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D42-70B4-4BEA-819F-A5D851BDC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B21-A798-4725-B92B-A53B9A3C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818-16F7-4B89-81B5-9A5818BF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E3F-869D-4DC6-A8C3-3080C2D5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B55-50BD-4276-945D-2479829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70B-1AD8-4EB5-AECD-8230482E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7A6D-A7F5-49A7-9924-06A321C9F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3FFB-773C-49EE-9C3D-A97687324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Our Place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oosier Environmental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lace-based Education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werPoint By Valerie Goetz Do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hat is place-based Educ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the process of using the local community and environment as a starting point to teach language arts, mathematics, social studies, science, and other subjects across the curriculum”- David Sob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quiry-based 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ademic standards 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s-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 world environmental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s students in their comm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er-cent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ructivist meth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and cooperative lear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hy use Place-based educ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 academic achiev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 social capit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reases environmental qual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vironmental Based Projec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ana is 49th in the nation in environmental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improves the local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ontribute to their community’s environmental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n a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ean water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will we do “Our Place”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view agenda for toda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meline for the Projec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ource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ource pers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21:25Z</dcterms:created>
  <dc:creator>vdoud</dc:creator>
  <dc:description/>
  <dc:language>en-US</dc:language>
  <cp:lastModifiedBy>emma doud</cp:lastModifiedBy>
  <dcterms:modified xsi:type="dcterms:W3CDTF">2009-06-15T21:12:05Z</dcterms:modified>
  <cp:revision>10</cp:revision>
  <dc:subject/>
  <dc:title>Our Place</dc:title>
</cp:coreProperties>
</file>